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38E1-E9D8-4D76-9993-4BC5E14EB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52CE-B272-413D-AD37-2341784D55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811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ckground Desig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Design Template: Network Blitz:   8.1” Height by 10” wide; fill whole p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ab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5 boxes across and 6 boxes down: total of 30 boxes.  Position: edge of table touches both left and right edge of slide.  Top of table is 1” from top of page and bottom is 1” from bottom of p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eading of colum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Literary terms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The Light in the Forest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Vocabulary, Test Taking Strategies, and Anything Goes: all in Arial font, size 22 and all centered justified all in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seco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fifth column, $100 - $500 dollar amount: Arial font, size 28 and all centered justified all in orange. All hyperlink to different pages throughout slide show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eading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inal Jeopardy!! In text box, .67”  horizontal and 0” vertical from top left hand corner.  Font: Arial Black 48 point font in yellow-oran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nal Jeopard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.75” horizontally and 7” vertically from top left hand corner.  Arial font size 24, orange color.  Hyperlink to final Jeopardy page (last page of slide show.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838080" y="4114800"/>
            <a:ext cx="5639040" cy="327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914400" y="7467480"/>
            <a:ext cx="533412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Principles: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Learning principle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organization: 3.4: logically organized text: each piece is chunked into its own category.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otivation principle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each question gets harder as you go through, therefore, the students start off with the easier information and get a sense of accomplishment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838080" y="7391520"/>
            <a:ext cx="563904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4B4F-7139-4B6F-BB7D-E96B4E5F82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37720" y="4343400"/>
            <a:ext cx="53341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ckground Desig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Design Template: Network Blitz:   8.1” Height by 10” wide; fill whole p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it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iterary Terms - $100: Position: .83” horizontally and 0.83” vertically from top left corner.  Font type: Arial Black size 48. Color: g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 box size: 4.5” height and 8” wide. Position: 1.08” horizontally and 2.08” vertically from top left corner.   Font: Arial, size 36 and color is wh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ext box: Position: 1.42” horizontally and 4.92” vertically from top left corner.  Font type: Times New Roman, size 44, color is white.  Action setting: fly from left on mouse click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ck Butt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lex Trebeck’s face.  Size 2.42”  height and 1.09” wide.  Position: 8.67.” horizontally and 4.58” vertically from top left corner.  Hyperlinked to first slide or game board slid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838080" y="4267080"/>
            <a:ext cx="5639040" cy="266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838080" y="6934320"/>
            <a:ext cx="5486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inciples: Motivat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there is immediate feedback to the students.  Setup in a game format making it more competitive.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erception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the rate of instruction is slow enough for students to determine the answer, yet quick enough so that they do not lose their focus.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ligne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all objects are aligned: the wording to the left and the picture to the right, based on the last letter or number in the titl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838080" y="6934320"/>
            <a:ext cx="56390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1785-D226-4F7C-A980-1EFB2B5A68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410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ckground Desig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Design Template: Network Blitz:   8.1” Height by 10” wide; fill whole p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it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iterary Terms - $200: Position: .83” horizontally and 0.83” vertically from top left corner.  Font type: Arial Black size 48. Color: g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 box size: 4.5” height and 8” wide. Position: 1.08” horizontally and 2.08” vertically from top left corner.   Font: Arial, size 36 and color is wh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ext box: Position: 1.42” horizontally and 4.92” vertically from top left corner.  Font type: Times New Roman, size 44, color is white.  Action setting: fly from left on mouse click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ck Butt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lex Trebeck’s face.  Size 2.42”  height and 1.09” wide.  Position: 8.67.” horizontally and 4.58” vertically from top left corner.  Hyperlinked to first slide or game board slid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838080" y="4191120"/>
            <a:ext cx="5639040" cy="274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914400" y="7010280"/>
            <a:ext cx="5562720" cy="19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inciples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tivation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ositive Impress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5.2- Text on the page is kept to a minimum so that students wont be overwhelmed. Well organized and familiar with type size, style, etc.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eadable Style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6- Passages are small and to the point. Wording is familiar and comfortable; not over their heads.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epetition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ll of the slides have the same style of text and the same background.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lignment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ll of the wording objects are aligned to the left.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838080" y="6934320"/>
            <a:ext cx="563904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09D8-DE5F-4CEF-B53D-D82BD813F5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2F5F-593B-4707-943B-D47DF2835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733D-1473-494B-B725-360D48E5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64CB-E410-47C1-8883-5A0972E5B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D3F2-0C19-4B0B-831C-A77A260DD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DDD6-414E-4006-9AA8-498DCAC49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54B2-0810-43C8-8677-89B625E2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4C05-37E1-41CB-90C0-8BBA034CB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A98F-6330-4C9F-9B1F-7269E6EF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DC73-2E13-47ED-A54A-8999BAAE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FB3C-838D-46D7-85C6-8A250E61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2244-0D9F-4746-8255-AFAFDF77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60DC-5319-4761-8FB6-434513E2D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6F1E3-F374-47D3-99A9-EDBF22B6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18A9-A91B-4C52-BDD4-06246099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DBDB-505B-44FF-812C-BB763CF7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3D118-385A-45E0-A837-601B9CFD8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600C-F5AE-4258-9218-9A5CA7D25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4D8C-1194-43D8-B14C-EC93B4DC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45D6-25B6-40C2-BAF1-86F3CC3B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7318-6F07-4753-90B2-A4F92130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261E-4C6C-4E13-873F-F97A6427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5AD3-99B3-4549-9677-3FF429A0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2052-E56C-4258-92CC-D56E9A8D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B9C3-C967-4540-854A-A32F06E7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D115-99F0-42B6-9D4C-629AADFAB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F35C-274F-448E-8C38-8C25A16532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" Target="slide12.xml"/><Relationship Id="rId4" Type="http://schemas.openxmlformats.org/officeDocument/2006/relationships/slide" Target="slide17.xml"/><Relationship Id="rId5" Type="http://schemas.openxmlformats.org/officeDocument/2006/relationships/slide" Target="slide22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23.xml"/><Relationship Id="rId11" Type="http://schemas.openxmlformats.org/officeDocument/2006/relationships/slide" Target="slide4.xml"/><Relationship Id="rId12" Type="http://schemas.openxmlformats.org/officeDocument/2006/relationships/slide" Target="slide9.xml"/><Relationship Id="rId13" Type="http://schemas.openxmlformats.org/officeDocument/2006/relationships/slide" Target="slide14.xml"/><Relationship Id="rId14" Type="http://schemas.openxmlformats.org/officeDocument/2006/relationships/slide" Target="slide19.xml"/><Relationship Id="rId15" Type="http://schemas.openxmlformats.org/officeDocument/2006/relationships/slide" Target="slide24.xml"/><Relationship Id="rId16" Type="http://schemas.openxmlformats.org/officeDocument/2006/relationships/slide" Target="slide5.xml"/><Relationship Id="rId17" Type="http://schemas.openxmlformats.org/officeDocument/2006/relationships/slide" Target="slide10.xml"/><Relationship Id="rId18" Type="http://schemas.openxmlformats.org/officeDocument/2006/relationships/slide" Target="slide15.xml"/><Relationship Id="rId19" Type="http://schemas.openxmlformats.org/officeDocument/2006/relationships/slide" Target="slide20.xml"/><Relationship Id="rId20" Type="http://schemas.openxmlformats.org/officeDocument/2006/relationships/slide" Target="slide25.xml"/><Relationship Id="rId21" Type="http://schemas.openxmlformats.org/officeDocument/2006/relationships/slide" Target="slide6.xml"/><Relationship Id="rId22" Type="http://schemas.openxmlformats.org/officeDocument/2006/relationships/slide" Target="slide11.xml"/><Relationship Id="rId23" Type="http://schemas.openxmlformats.org/officeDocument/2006/relationships/slide" Target="slide16.xml"/><Relationship Id="rId24" Type="http://schemas.openxmlformats.org/officeDocument/2006/relationships/slide" Target="slide21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JEOPARDY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0" y="914400"/>
          <a:ext cx="9144000" cy="5062680"/>
        </p:xfrm>
        <a:graphic>
          <a:graphicData uri="http://schemas.openxmlformats.org/drawingml/2006/table">
            <a:tbl>
              <a:tblPr/>
              <a:tblGrid>
                <a:gridCol w="1844640"/>
                <a:gridCol w="1924200"/>
                <a:gridCol w="1717560"/>
                <a:gridCol w="1843200"/>
                <a:gridCol w="18144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ussia (1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ussia (2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rainpo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ncient Geograph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urrent Ev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Text Box 133"/>
          <p:cNvSpPr/>
          <p:nvPr/>
        </p:nvSpPr>
        <p:spPr>
          <a:xfrm>
            <a:off x="3429000" y="6400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98d43"/>
                </a:solidFill>
                <a:uFillTx/>
                <a:latin typeface="Arial"/>
                <a:hlinkClick r:id="rId26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makes up 77% of Russia?  Also, what continent has the coldest climat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066680" y="434340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beria and Antarctic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5" descr="alex_no_stash_no_backgroun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75720" y="4038480"/>
            <a:ext cx="1268280" cy="281952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914400" y="8078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Russia (2) - $4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difference between a free-market and communist economic system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066680" y="3886200"/>
            <a:ext cx="6477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ee-Market - chose your own jo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unist - government chooses for y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Picture 5" descr="alex_no_stash_no_backgroun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13600" y="4343400"/>
            <a:ext cx="1130400" cy="25146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914400" y="4428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Russia (2) - $500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871200"/>
            <a:ext cx="746784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Brainpop- $1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. At 2 AM on the first Sunday in March, we move our clocks forwar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1066680" y="3733920"/>
            <a:ext cx="51055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True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Picture 5" descr="alex_no_stash_no_backgroun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15480" y="4572000"/>
            <a:ext cx="102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7156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Brainpop- $2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as the name of the famous English play writer who wrote Romeo and Juliet?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219320" y="373392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illiam Shakespea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5" descr="alex_no_stash_no_backgroun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15480" y="4572000"/>
            <a:ext cx="102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7920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Brainpop- $3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iary of _______  ________ is about a young German girl whose family spent 25 months in hiding during the Holocau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1066680" y="380988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ne Frank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Picture 5" descr="alex_no_stash_no_backgroun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15480" y="4572000"/>
            <a:ext cx="102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57168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rainpop- $4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do we turn our clocks back to standard time?  (What month?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990720" y="419112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Novemb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Picture 5" descr="alex_no_stash_no_backgroun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15480" y="4572000"/>
            <a:ext cx="102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7920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Brainpop- $5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was Anne Frank hiding?  (City and Country)  - 3 Cho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1295280" y="419112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msterdam, Netherland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Picture 6" descr="alex_no_stash_no_backgroun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15480" y="4572000"/>
            <a:ext cx="102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Ancient Geography- $1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what continent would you find the Egyptian Pyramid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066680" y="4495680"/>
            <a:ext cx="59436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ffff"/>
                </a:solidFill>
                <a:latin typeface="Times New Roman"/>
              </a:rPr>
              <a:t>Africa</a:t>
            </a:r>
            <a:endParaRPr b="0" lang="en-US" sz="5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Picture 5" descr="alex_no_stash_no_backgroun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15480" y="4572000"/>
            <a:ext cx="102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country has a population of 192, 000, 000 people?  It is home to the biggest rain forest on earth and also contains the Amazon Riv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1066680" y="4800600"/>
            <a:ext cx="60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Brazil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5" descr="alex_no_stash_no_background"/>
          <p:cNvPicPr/>
          <p:nvPr/>
        </p:nvPicPr>
        <p:blipFill>
          <a:blip r:embed="rId2"/>
          <a:stretch/>
        </p:blipFill>
        <p:spPr>
          <a:xfrm>
            <a:off x="8115480" y="4572000"/>
            <a:ext cx="1028520" cy="22860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Ancient Geography- $2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name of the popular resort city on the Yucatan Peninsula?  What continent is it found i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143000" y="464832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ancun and North Americ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Picture 5" descr="alex_no_stash_no_background"/>
          <p:cNvPicPr/>
          <p:nvPr/>
        </p:nvPicPr>
        <p:blipFill>
          <a:blip r:embed="rId2"/>
          <a:stretch/>
        </p:blipFill>
        <p:spPr>
          <a:xfrm>
            <a:off x="8115480" y="4572000"/>
            <a:ext cx="1028520" cy="228600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Ancient Geography- $300 (DD)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82224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Russia - $1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. 70 % of Russians are Roman Cathol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752480" y="358128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l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4079880"/>
            <a:ext cx="205740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xplain the difference between Latitude and Longitud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1295280" y="3505320"/>
            <a:ext cx="6019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atitude – measures North and South; Longitude – measures East and Wes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Picture 5" descr="alex_no_stash_no_background"/>
          <p:cNvPicPr/>
          <p:nvPr/>
        </p:nvPicPr>
        <p:blipFill>
          <a:blip r:embed="rId2"/>
          <a:stretch/>
        </p:blipFill>
        <p:spPr>
          <a:xfrm>
            <a:off x="8115480" y="4572000"/>
            <a:ext cx="1028520" cy="22860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990720" y="8348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Ancient Geography - $4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way of life of people who share similar beliefs and customs known a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990720" y="4038480"/>
            <a:ext cx="7162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Times New Roman"/>
              </a:rPr>
              <a:t>Culture</a:t>
            </a:r>
            <a:endParaRPr b="0" lang="en-US" sz="4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Picture 5" descr="alex_no_stash_no_background"/>
          <p:cNvPicPr/>
          <p:nvPr/>
        </p:nvPicPr>
        <p:blipFill>
          <a:blip r:embed="rId2"/>
          <a:stretch/>
        </p:blipFill>
        <p:spPr>
          <a:xfrm>
            <a:off x="8115480" y="4572000"/>
            <a:ext cx="1028520" cy="22860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Ancient Geography- $5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urrent Events - $1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nation’s head of Olympic sports will be forced to resign after his country had a poor performance at the 2010 Winter Olympic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1905120" y="4267080"/>
            <a:ext cx="4114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Russia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Picture 5" descr="alex_no_stash_no_background"/>
          <p:cNvPicPr/>
          <p:nvPr/>
        </p:nvPicPr>
        <p:blipFill>
          <a:blip r:embed="rId2"/>
          <a:stretch/>
        </p:blipFill>
        <p:spPr>
          <a:xfrm>
            <a:off x="7696080" y="4191120"/>
            <a:ext cx="1028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urrent Events - $2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st week, President Obama proposed $900 million to stop what social problem in America: homelessness, high school dropouts, drugs abu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066680" y="4876920"/>
            <a:ext cx="6324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High School Dropouts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Picture 5" descr="alex_no_stash_no_background"/>
          <p:cNvPicPr/>
          <p:nvPr/>
        </p:nvPicPr>
        <p:blipFill>
          <a:blip r:embed="rId2"/>
          <a:stretch/>
        </p:blipFill>
        <p:spPr>
          <a:xfrm>
            <a:off x="7696080" y="4572000"/>
            <a:ext cx="1028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urrent Events - $3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as the number one movie at the theaters last week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1143000" y="4114800"/>
            <a:ext cx="64771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Alice in Wonderland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2" name="Picture 5" descr="alex_no_stash_no_background"/>
          <p:cNvPicPr/>
          <p:nvPr/>
        </p:nvPicPr>
        <p:blipFill>
          <a:blip r:embed="rId2"/>
          <a:stretch/>
        </p:blipFill>
        <p:spPr>
          <a:xfrm>
            <a:off x="8115480" y="4572000"/>
            <a:ext cx="102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urrent Events - $4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of last Saturday, what player leads the NBA in scoring, averaging 30 points a game: LeBron James, Kobe Bryant, Carmelo Antho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1066680" y="4343400"/>
            <a:ext cx="662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LeBron Jame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Picture 5" descr="alex_no_stash_no_background"/>
          <p:cNvPicPr/>
          <p:nvPr/>
        </p:nvPicPr>
        <p:blipFill>
          <a:blip r:embed="rId1"/>
          <a:stretch/>
        </p:blipFill>
        <p:spPr>
          <a:xfrm>
            <a:off x="7696080" y="4572000"/>
            <a:ext cx="1028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urrent Events - $5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movie won best picture at the Oscars? (Avatar, Up, Hurt Locker, Crazy Heart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1371600" y="411480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urt Lock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Picture 5" descr="alex_no_stash_no_background"/>
          <p:cNvPicPr/>
          <p:nvPr/>
        </p:nvPicPr>
        <p:blipFill>
          <a:blip r:embed="rId2"/>
          <a:stretch/>
        </p:blipFill>
        <p:spPr>
          <a:xfrm>
            <a:off x="7696080" y="4572000"/>
            <a:ext cx="1028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533520" y="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Final Jeopard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010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eate a thesis statement out of the questions below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4" descr="alex_no_stash_no_background"/>
          <p:cNvPicPr/>
          <p:nvPr/>
        </p:nvPicPr>
        <p:blipFill>
          <a:blip r:embed="rId2"/>
          <a:stretch/>
        </p:blipFill>
        <p:spPr>
          <a:xfrm>
            <a:off x="7696080" y="4572000"/>
            <a:ext cx="1028880" cy="228600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5"/>
          <p:cNvSpPr/>
          <p:nvPr/>
        </p:nvSpPr>
        <p:spPr>
          <a:xfrm>
            <a:off x="609480" y="3505320"/>
            <a:ext cx="6553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ain why True Son was frightened to return to the Butler hou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74592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Russia (1) - $2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.  The capital city of Russia is Mosc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1295280" y="487692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u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5" descr="alex_no_stash_no_backgroun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4186080"/>
            <a:ext cx="12002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82980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Russia (1) $3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divides Asia and Europe?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371600" y="449568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Ural Mountai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6" descr="alex_no_stash_no_backgroun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45280" y="4419720"/>
            <a:ext cx="10987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Russia (1)- $4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ame the three most popular sports in Russia.  Which sport have they won the most gold medals and total medal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523880" y="4267080"/>
            <a:ext cx="5791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ce Hockey, Figure Skating, and Gymnastic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6" descr="alex_no_stash_no_background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82000" y="4495680"/>
            <a:ext cx="10620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7920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Russia (1) -$5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do most Russians live and why do they live there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219320" y="3733920"/>
            <a:ext cx="70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st Russians live in the Western part of Russia because it is not as col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6" descr="alex_no_stash_no_backgroun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85320" y="4724280"/>
            <a:ext cx="9586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8078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Russia-$1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.  In Communist Soviet Union, religion is encourag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295280" y="5029200"/>
            <a:ext cx="632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l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icture 5" descr="alex_no_stash_no_backgroun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0400" y="4648320"/>
            <a:ext cx="993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food do Russians eat on special occasions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219320" y="434340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avia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5" descr="alex_no_stash_no_backgroun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73840" y="3809880"/>
            <a:ext cx="1370160" cy="30481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914400" y="8078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Russia (2) - $200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many people live in Russia?  Does it have more or less people than the United State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371600" y="3886200"/>
            <a:ext cx="5181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45 million/ less people than the United Stat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6" descr="alex_no_stash_no_background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4572000"/>
            <a:ext cx="1028520" cy="2286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914400" y="8078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Russia (2) $300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1T03:08:49Z</dcterms:created>
  <dc:creator>Student</dc:creator>
  <dc:description/>
  <dc:language>en-US</dc:language>
  <cp:lastModifiedBy>Tom Otis</cp:lastModifiedBy>
  <dcterms:modified xsi:type="dcterms:W3CDTF">2010-03-12T18:46:42Z</dcterms:modified>
  <cp:revision>75</cp:revision>
  <dc:subject/>
  <dc:title>Jeopardy</dc:title>
</cp:coreProperties>
</file>